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FC4-F4AA-416A-A2BC-9E2EFAB2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212-02E0-4F2B-A1EB-84737EFA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3E9-0FE1-4E92-BEED-27AC04FE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45F-2A9B-498C-87DE-4701CB61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6814-CEA1-41F8-83AF-99537078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5869-21B4-4854-ADE6-A4286773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E368-0202-4649-A4A7-E91CF211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FA09-7EEC-40B6-9886-E5BD82FD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1F2E-6625-4FBD-ABF6-F9DA3CF0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2108-515B-4DC0-8791-7254E12B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C0F5-D3F5-4569-A1AA-F1B9CC99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17D-DB10-4AE4-9568-1583FBB5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2483-992A-4530-8440-EAC9EF09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DF8A-007A-4C63-BA59-425EC6D8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0AF7-ECDD-4F2B-94FF-878459CF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34A7-2A0C-4FB6-B218-CCBA621D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CACF-4A6C-4FF5-883A-D7637E93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F8F-2302-48F3-BD3B-24C5882B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87F-C2FB-4D3E-81A1-A8940DA2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DB0-3FD2-4911-B7B3-C3B9EAC3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4F4-12FC-493C-AEBE-E4E31192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797-ED40-4178-AE9D-BD71EB33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6A0-73DC-42D4-A135-790DDF7B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F10-E918-4DED-B54F-7A734AA3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87AE-DEC1-4BB0-B12B-7CE5628C3A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5FFA-F688-4327-BC9A-EE0A0FA461C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t #9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as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Gas Law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Ideal Gas -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n imaginary gas whose behavior is described by the gas law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Observed Properties of Gas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Expansion -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ases do not have a definite shape or volume. Their shape is determined by the containe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Pressure -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irectly proportional to temperature. As the temp goes up, so does the pressu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Comic Sans MS"/>
              </a:rPr>
              <a:t>Low Density -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ses are approximately 1/1000 the density of their solid or liquid pha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50532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Example:  1.5 grams of  "substance A" might have a volume of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09680" y="4952880"/>
            <a:ext cx="500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)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.3 mL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when a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14720" y="5486400"/>
            <a:ext cx="468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c)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050 mL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when a g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25520" y="4419720"/>
            <a:ext cx="48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)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.0 mL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when a sol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Diffusion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rocess of spreading out uniformly (without help), to occupy a space uniformly is a characteristic of all gas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Kinetic Theory of a Ga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(Description of a Gas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Kinetic Theory of a Gas 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762480" y="2437920"/>
            <a:ext cx="952524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s consist of very small independent particles (atoms / molecules) that move at random in space; and experience elastic collisions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001160" y="4572000"/>
            <a:ext cx="716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[ This "imaginary gas" is called an Ideal Gas ]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Elastic Collision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collision that assumes there is no change in Kinetic energy, even after collisions with the inside of the container and each othe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 assumptio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etic Theory of a G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molecules are of an ideal mas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member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4584600" y="3446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21040" y="34257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342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99080" y="356076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56280" y="344664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27680" y="424656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13200" y="401796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84600" y="413244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041080" y="37893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983680" y="41324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276000" y="411480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440880" y="41324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555360" y="40179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26760" y="40179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98160" y="40179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983680" y="39038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212280" y="39038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40880" y="39038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55360" y="37893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326760" y="37893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98160" y="37893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983680" y="36752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212280" y="36752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40880" y="36752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55360" y="35607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326760" y="35607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098160" y="35607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62640" y="4098960"/>
            <a:ext cx="11448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6400" y="3641760"/>
            <a:ext cx="1141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933600" y="3870360"/>
            <a:ext cx="1141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269680" y="36752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384160" y="41324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74600" y="442764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25560" y="44276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5040" y="442764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41640" y="518148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ich has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08960" y="518148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ntrop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05720" y="5181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ner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 assumptio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etic Theory of a G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molecules are in constant random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traight line mo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 assumptio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etic Theory of a G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verage Kinetic energy is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portional to the absolute temperatur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f the molecul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 assumptio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etic Theory of a G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4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ll collisions are Elastic, (No change i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Kinetic energy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 assumptio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etic Theory of a G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molecules do not attract or repel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ach othe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17521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There are intermolecular (van der Waal) 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attractive forces between gas molecules: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615600" y="2819520"/>
            <a:ext cx="500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halkboard"/>
              </a:rPr>
              <a:t>Condensation Temperature -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505320"/>
            <a:ext cx="79246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lowest temperature a substance can exist as a gas at atmospheric pressure. At this temperature the Kinetic energy of the gas particle is not sufficient to overcome the forces of attraction between the partic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Boyles Law -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t constant temperature, the volume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inversel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proportional to the pressure appli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↑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V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↓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↓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V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=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temperat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8390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14.5 liter sample of gas is under a pressure of  7.62 KPa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will the volume be if the pressure is decreased to 5.54 KPa 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419480" y="3733920"/>
            <a:ext cx="5330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 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   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=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360" y="4419720"/>
            <a:ext cx="576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(7.62 KPa) (14.5 L)  =  (5.54 KPa) (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58880" y="5181480"/>
            <a:ext cx="19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19.9 L = 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temperat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685800" y="205740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balloon contains  900 liters of "air" (assumed to be "Ideal") at 1.90 atm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is the volume if the pressure is increased to 2.38 atm. 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419480" y="3733920"/>
            <a:ext cx="5330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 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   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=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88840" y="4495680"/>
            <a:ext cx="553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(1.90 atm.)(900 L) = (2.38 atm.)(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4680" y="5181480"/>
            <a:ext cx="181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718 L = 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temperat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685800" y="190512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2" marL="1108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piston compresses the contents of a cylinder, which was at a pressure of  620 mm Hg (about 12 psi), from  712.5mL  to  64.8mL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is the new pressure inside the cylinder 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084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419480" y="3733920"/>
            <a:ext cx="5330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 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   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=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0800" y="4495680"/>
            <a:ext cx="717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(620mmHg)(712.5mL)  =  (X mmHg)(64.8m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8280" y="5181480"/>
            <a:ext cx="291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6817 mmHg =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temperat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685800" y="190512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s at 1 atmosphere of pressure, with a volume of 60 liters is allowed to expand to a volume of   180 liters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happens to the pressure 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419480" y="3733920"/>
            <a:ext cx="5330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 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   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=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01280" y="4495680"/>
            <a:ext cx="480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(1 atm)(60L)  =  (X atm)(180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2800" y="5181480"/>
            <a:ext cx="257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0.333 atm =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Pressure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measure of force over a given area. It is caused by the collision of the gas molecules / atoms with the sides of the contain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Charles' Law -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868680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t constant pressure, the volume of a gas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directl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proportional to its Kelvin temperatur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-152640" y="3505320"/>
            <a:ext cx="76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↑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T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↑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↓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T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20960" y="4114800"/>
            <a:ext cx="854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/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= 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/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or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= 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06720" y="4724280"/>
            <a:ext cx="81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emperature must be in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285480" y="5181480"/>
            <a:ext cx="56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i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K  =  C  +  273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ii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  =  K  -  273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press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685800" y="228600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sample of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as a volume of 3.50 liters at   -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will its volume be at 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752480" y="3808440"/>
            <a:ext cx="1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00120" y="4495680"/>
            <a:ext cx="27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22320" y="3335400"/>
            <a:ext cx="810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First convert all temperatures to Kelvi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800" y="4133880"/>
            <a:ext cx="234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C + 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64680" y="4629240"/>
            <a:ext cx="277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-10</a:t>
            </a:r>
            <a:r>
              <a:rPr b="1" lang="en-US" sz="26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+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92760" y="5105520"/>
            <a:ext cx="20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263.15 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34720" y="4133880"/>
            <a:ext cx="234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C + 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92240" y="4616280"/>
            <a:ext cx="285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100</a:t>
            </a:r>
            <a:r>
              <a:rPr b="1" lang="en-US" sz="26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+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21760" y="5073480"/>
            <a:ext cx="20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373.15 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press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685800" y="228600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sample of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as a volume of 3.50 liters at  -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will its volume be at 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1752480" y="3808440"/>
            <a:ext cx="1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00120" y="4495680"/>
            <a:ext cx="27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9080" y="3335400"/>
            <a:ext cx="59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n solve using algebr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0960" y="3962520"/>
            <a:ext cx="1914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 =  T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49520" y="4648320"/>
            <a:ext cx="5566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(263.15 K)(X L)  =  (373.15 K)(3.50 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18680" y="5378400"/>
            <a:ext cx="236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(X L)  =  4.96 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press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685800" y="228600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 600mL  (20 oz.) cylinder  is full of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at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will the temperature be in Celsius, if the volume is dropped to 150mL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752480" y="3808440"/>
            <a:ext cx="1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00120" y="4495680"/>
            <a:ext cx="27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28520" y="3581280"/>
            <a:ext cx="810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First convert all temperatures to Kelvi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70800" y="4133880"/>
            <a:ext cx="234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C + 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72600" y="4629240"/>
            <a:ext cx="266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20</a:t>
            </a:r>
            <a:r>
              <a:rPr b="1" lang="en-US" sz="26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+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92760" y="5105520"/>
            <a:ext cx="20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293.15 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press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685800" y="228600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 600mL  (20 oz.) cylinder  is full of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at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will the temperature be in Celsius, if the volume is dropped to 150mL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752480" y="3808440"/>
            <a:ext cx="1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00120" y="4495680"/>
            <a:ext cx="27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9080" y="3657600"/>
            <a:ext cx="59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n solve using algebr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2400" y="4191120"/>
            <a:ext cx="1914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 =  T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60640" y="4800600"/>
            <a:ext cx="5409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(293.15 K)(150 mL)  =  (X K)(600 m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40520" y="5486400"/>
            <a:ext cx="263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(73.28 K) = (X 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halkboard"/>
              </a:rPr>
              <a:t>DO WE ALL AGREE WITH THIS ANSWER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685800" y="228600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 600mL  (20 oz.) cylinder  is full of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at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will the temperature be in Celsius, if the volume is dropped to 150mL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752480" y="3808440"/>
            <a:ext cx="1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00120" y="4495680"/>
            <a:ext cx="27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80200" y="3657600"/>
            <a:ext cx="142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sw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40520" y="3657600"/>
            <a:ext cx="263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(73.28 K) = (X 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18720" y="4332240"/>
            <a:ext cx="269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C   =  K  -  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48600" y="4921200"/>
            <a:ext cx="333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C   =  73.28  -  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51040" y="5514840"/>
            <a:ext cx="329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   =  -199.8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o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3657600"/>
            <a:ext cx="26668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580840" y="3651120"/>
            <a:ext cx="2687040" cy="317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35053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s question wants the answer in Celsi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Ideal Gas Law -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876312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quation: PV = nRT, which relates the: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#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f moles, volume, temperature, and pressure; of an ideal ga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V = nR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23623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P = pressure in atmosphe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5080" y="3124080"/>
            <a:ext cx="591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 = volume in L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59400" y="3809880"/>
            <a:ext cx="51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 =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#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of moles of the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4525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R = the universal gas constant =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0.0821 L * atm / mol *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5760" y="5486400"/>
            <a:ext cx="52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 = temperature in Kelv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Ideal Gas -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915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n imaginary gas whose behavior is described by the gas laws and Kinetic Theory of a ga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055160" y="25909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memb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Examples: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686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lvl="2"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What is the pressure of  22.4 liters of a Nitrous oxide that is stored at  32</a:t>
            </a:r>
            <a:r>
              <a:rPr b="1" lang="en-US" sz="2600" spc="-1" strike="noStrike" baseline="30000">
                <a:solidFill>
                  <a:srgbClr val="ffffff"/>
                </a:solidFill>
                <a:latin typeface="Chalkboard"/>
              </a:rPr>
              <a:t>oF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 ?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932760" y="2666880"/>
            <a:ext cx="132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Answ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53840" y="2666880"/>
            <a:ext cx="23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PV = n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70280" y="3352680"/>
            <a:ext cx="65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P =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37960" y="3397320"/>
            <a:ext cx="107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X at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06200" y="3886200"/>
            <a:ext cx="65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V =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81160" y="3886200"/>
            <a:ext cx="109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22.4 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56960" y="441972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n =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48560" y="4419720"/>
            <a:ext cx="657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1 mole (use DIMO to convert liters to mol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9000" y="4952880"/>
            <a:ext cx="66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R =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39040" y="4952880"/>
            <a:ext cx="341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0.0821 L*atm / mol*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0440" y="548640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 =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55440" y="545940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32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Chalkboard"/>
              </a:rPr>
              <a:t>oF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 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03480" y="5486400"/>
            <a:ext cx="74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0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21320" y="546876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=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33240" y="5486400"/>
            <a:ext cx="326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0 + 273.15 = 273.15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Common unit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(All of the following are equal to each other):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971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 atm (atmospher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760 mm/Hg (millimeters of Mercur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01.325KPa (Kilopascal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4.7 psi or lb/i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Substituting in the appropriate values we get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3902400" y="2438280"/>
            <a:ext cx="153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PV = n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-565200" y="3429000"/>
            <a:ext cx="9554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(X atm.)(22.4 L) = (1 mol)(0.0821 L*atm / mol*K)(273.15 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34160" y="4253040"/>
            <a:ext cx="333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(X atm) = 1.0011 at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What is the temperature of 1 mole of Oxygen stored at 14.7 psi inside a 22.4 L cylin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918160" y="312408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V = n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6000" y="3886200"/>
            <a:ext cx="84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(1 atm) (22.4 L) = (1 mol) (0.0821 L*atm/mol*K) 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28000" y="472428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72.838 K =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What is the volume of  6.02*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halkboard"/>
              </a:rPr>
              <a:t>23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 molecules of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S (Hydrogen sulfide) if it is under STP condition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918160" y="312408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V = n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9400" y="3886200"/>
            <a:ext cx="836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(1 atm) (V L) = (1 mol) (0.0821 L*atm/mol*K) (273.15 K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25680" y="472428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V = 22.4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How many moles of Chlorine would fill a balloon if its internal pressure was  760 mmHg while at a temperature of 32</a:t>
            </a:r>
            <a:r>
              <a:rPr b="1" lang="en-US" sz="2600" spc="-1" strike="noStrike" baseline="30000">
                <a:solidFill>
                  <a:srgbClr val="ffffff"/>
                </a:solidFill>
                <a:latin typeface="Chalkboard"/>
              </a:rPr>
              <a:t>oF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 and holding 22.4 liters of the gas?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2918160" y="312408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V = n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733920"/>
            <a:ext cx="883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(1 atm) (22.4 L) = (X mol) (0.0821 L*atm/mol*K) (273.15 K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81040" y="47242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0.998857779 = X m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Practical Applications of the Ideal Gas Law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743200"/>
            <a:ext cx="88390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If an aerosol can with a volume of 750 mL has a pressure of 80 psi is heated from 2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oC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(6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) to 6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oC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(14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)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First, how many moles of the gas are in the can ?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econdly, what is the new pressure in the ca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 suggest making a chart (using the data given in the "problem") like the one that follows for all of these types of proble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1143000" y="1828800"/>
          <a:ext cx="6858000" cy="3886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it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ss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# of mo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emperat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3960000" y="25146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80 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49200" y="320040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75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33400" y="38098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94120" y="449568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0.0821 L*atm/mol*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40000" y="510552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34440" y="251460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58880" y="320040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75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43440" y="38098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26000" y="510552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t this point you should be able to see that you first have to solve for "x" in the original problem.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038480"/>
            <a:ext cx="8763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You will first have to convert the information into the correct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16200" y="1676520"/>
            <a:ext cx="383832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55760" y="403848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293.15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32880" y="3352680"/>
            <a:ext cx="48517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0.0821 l * atm / mol *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59600" y="289548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X m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96160" y="236232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0.75 l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8640" y="182880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5.44 a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31200" y="4800600"/>
            <a:ext cx="46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Therefore using      PV = n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75400" y="5410080"/>
            <a:ext cx="286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n = 0.1695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143000" y="1828800"/>
          <a:ext cx="6858000" cy="3886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it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ss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# of mo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1695 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1695 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emperat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60000" y="25146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80 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49200" y="320040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75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94120" y="449568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0.0821 L*atm/mol*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40000" y="510552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34440" y="251460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58880" y="320040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75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26000" y="510552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Volume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amount of space a gas is fill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-104760" y="1752480"/>
            <a:ext cx="888732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0.75 l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0.1695 moles (calculated abo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0.0821 l * atm / mol *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f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333.15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35440" y="4952880"/>
            <a:ext cx="359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Solving  for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f 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44680" y="498312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6.18 atm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97280" y="49528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12880" y="4952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90.8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57840" y="49528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Dalton’s Law of Partial Pressure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15364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 constant volume and temperature, the total pressure exerted by a mixture of gases is equal to the sum of the partial pressures of the component gas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2467800" y="5235480"/>
            <a:ext cx="4275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total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= P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+ P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+ P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+ P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4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Partial Pressure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contribution each gas in a mixture makes to the total pressu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253880" y="3581280"/>
            <a:ext cx="5964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Represented by:  P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(the name of the ga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6160" y="4191120"/>
            <a:ext cx="899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ike any pressure, Partial Pressure depends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# of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verage kinetic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965920" y="5486400"/>
            <a:ext cx="25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(Tempera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ole frac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2296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fraction of moles of a component gas in the total moles of a mixture of gas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971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 #1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ir contains Oxygen, Nitrogen, Carbon dioxide, and some other gases. What is the partial pressure of Oxygen (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O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) at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760 mmHg  if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N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= 593.3 mmHg,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CO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= 0.3 mmHg a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Others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= 7.05 mmHg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45600" y="1969920"/>
            <a:ext cx="567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halkboard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halkboard"/>
              </a:rPr>
              <a:t>O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halkboard"/>
              </a:rPr>
              <a:t>N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halkboard"/>
              </a:rPr>
              <a:t>CO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halkboard"/>
              </a:rPr>
              <a:t>Oth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-360" y="1676520"/>
            <a:ext cx="88390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10.0 liter flask contains 1.031 g. of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and 0.572 g. of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at 18˚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What are the partial pressures of the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and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? What is the pressure inside the flask? What is the mole fraction of the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in the mixtur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Temperature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measure of the average velocity of the gas particl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293040" y="4549680"/>
            <a:ext cx="611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tandard temperature = 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oC</a:t>
            </a:r>
            <a:r>
              <a:rPr b="1" lang="en-US" sz="3000" spc="-1" strike="noStrike">
                <a:solidFill>
                  <a:srgbClr val="ff0000"/>
                </a:solidFill>
                <a:latin typeface="Chalkboard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Mole -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876312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1 mole of any gas at "STP" will always equal 22.4 liters.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Chalkboard"/>
              </a:rPr>
              <a:t>STP -</a:t>
            </a:r>
            <a:r>
              <a:rPr b="0" lang="en-US" sz="3000" spc="-1" strike="noStrike">
                <a:solidFill>
                  <a:srgbClr val="ff0000"/>
                </a:solidFill>
                <a:latin typeface="Chalkboar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S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tandard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T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emperature and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ressure.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1093320" y="4800600"/>
            <a:ext cx="41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halkboard"/>
              </a:rPr>
              <a:t>Standard Pressure =</a:t>
            </a:r>
            <a:r>
              <a:rPr b="0" lang="en-US" sz="3000" spc="-1" strike="noStrike">
                <a:solidFill>
                  <a:srgbClr val="ff0000"/>
                </a:solidFill>
                <a:latin typeface="Chalkboar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74200" y="3809880"/>
            <a:ext cx="108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0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20720" y="4800600"/>
            <a:ext cx="12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1 at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3400" y="3809880"/>
            <a:ext cx="48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halkboard"/>
              </a:rPr>
              <a:t>Standard Temperature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79480" y="3809880"/>
            <a:ext cx="11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273 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Universal Gas Constant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n unchanging, numerical value, that "allows" the various units of the gas laws to be combin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120680" y="49798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=   0.0821 L*atm/mol*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47880" y="4952880"/>
            <a:ext cx="30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=  8.3145 J/K*m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23:33:13Z</dcterms:created>
  <dc:creator>PA Department of Education</dc:creator>
  <dc:description/>
  <dc:language>en-US</dc:language>
  <cp:lastModifiedBy>PA Department of Education</cp:lastModifiedBy>
  <dcterms:modified xsi:type="dcterms:W3CDTF">2009-05-06T13:16:47Z</dcterms:modified>
  <cp:revision>89</cp:revision>
  <dc:subject/>
  <dc:title>Unit #9</dc:title>
</cp:coreProperties>
</file>